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94B2-CA55-48D5-A374-D0EDADE0F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re not claiming credit for the whole module, we're just its N European representative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, person, and other info in nd_experimentprop and nd_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f required: nd_geo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-g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ur motivation at VectorBase - if we do it properly,  it should be possible to do association studies on accumulated community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 = tom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R = apples, pea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just stocks in the usual sense of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efin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d the NOT NULL constraint on organism so that mixed or unknown species collections (e.g. soil samples) can be track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quickly now because the examples in a minute will make things cl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ve currently got a nd_ prefix for all tables in the model but this is still open to deb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.type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urrently envisage 4 types but of cou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A24-ED07-4805-8C23-C60A1191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F68-EB00-45B4-AD03-E9918DB4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E5E-8E71-4B1A-8CD4-0DEFE18C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67D-5D52-4CA7-84AB-11324CAF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FAC-5F63-4A2B-BC40-2F56463C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612-2E87-428E-B5D2-18FB13E6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C02-2DD4-4A80-8748-B2211814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925-7248-4B13-AA0D-0DBAB3F9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E8C-C8E2-4934-B017-EB8F8164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6EC-9CB0-44F0-A046-AB4C00E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AD8-2F0D-4127-80A7-C8F62F8D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A66-1645-4F4D-B507-CBA6791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714B-8FDD-4B65-AA09-5F21906B6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1727280"/>
            <a:ext cx="8390160" cy="1876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GMOD Chado Natural Diversity Mo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2560" y="4165200"/>
            <a:ext cx="5243400" cy="227340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MacCal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h Red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ectorbas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57720" y="4179960"/>
            <a:ext cx="2940120" cy="2071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cross 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246560" y="3657600"/>
            <a:ext cx="2295360" cy="657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7351560" y="6300720"/>
            <a:ext cx="1706760" cy="6588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2825640" y="4417920"/>
            <a:ext cx="2268720" cy="1957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6"/>
          <a:stretch/>
        </p:blipFill>
        <p:spPr>
          <a:xfrm>
            <a:off x="1541520" y="4954680"/>
            <a:ext cx="2516040" cy="8492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1030320" y="4417920"/>
            <a:ext cx="3808440" cy="2071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1279440" y="4829040"/>
            <a:ext cx="2516400" cy="851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9"/>
          <a:stretch/>
        </p:blipFill>
        <p:spPr>
          <a:xfrm>
            <a:off x="2452680" y="6313320"/>
            <a:ext cx="1706400" cy="657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5792760" y="5140440"/>
            <a:ext cx="2368440" cy="6588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1"/>
          <a:stretch/>
        </p:blipFill>
        <p:spPr>
          <a:xfrm>
            <a:off x="507960" y="6313320"/>
            <a:ext cx="17067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352680" y="4368960"/>
            <a:ext cx="1131840" cy="258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field coll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470480" y="3149640"/>
            <a:ext cx="417600" cy="1052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978440" y="4675320"/>
            <a:ext cx="2627280" cy="1933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165560" y="3962520"/>
            <a:ext cx="2625840" cy="954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7297560" y="6626160"/>
            <a:ext cx="2627640" cy="687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757840" y="5283360"/>
            <a:ext cx="2625840" cy="887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2781360" y="2124000"/>
            <a:ext cx="2406600" cy="1022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9"/>
          <a:stretch/>
        </p:blipFill>
        <p:spPr>
          <a:xfrm>
            <a:off x="914400" y="3962520"/>
            <a:ext cx="2395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486080" y="2387520"/>
            <a:ext cx="333360" cy="1349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phenotype as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3319560" y="3559320"/>
            <a:ext cx="1755720" cy="6379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5126040" y="1725480"/>
            <a:ext cx="434880" cy="2773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4216320" y="3746520"/>
            <a:ext cx="2540160" cy="858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5400720" y="4743360"/>
            <a:ext cx="2989080" cy="2063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7345440" y="6602400"/>
            <a:ext cx="2539800" cy="665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5775480" y="5243400"/>
            <a:ext cx="2538360" cy="857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9"/>
          <a:stretch/>
        </p:blipFill>
        <p:spPr>
          <a:xfrm>
            <a:off x="4491000" y="1015920"/>
            <a:ext cx="2613240" cy="663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0"/>
          <a:stretch/>
        </p:blipFill>
        <p:spPr>
          <a:xfrm>
            <a:off x="326880" y="3422520"/>
            <a:ext cx="3576960" cy="6638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203040" y="1514520"/>
            <a:ext cx="2611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V ter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ma is very flex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d_experiment.type and nd_experiment_stock.type are ke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ral ways to do the same th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group is hoping to agree on core CV terms to aid API develop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simplified API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914400" y="1625760"/>
            <a:ext cx="7507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 phenotypic and genotypic data for both field collected and captive bred organis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e collection site information for growing "next gen"-based variation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verage existing/future Chado modules, GMOD tools and know-h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velopmental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3200" y="725400"/>
            <a:ext cx="8813880" cy="5060880"/>
            <a:chOff x="673200" y="725400"/>
            <a:chExt cx="8813880" cy="5060880"/>
          </a:xfrm>
        </p:grpSpPr>
        <p:sp>
          <p:nvSpPr>
            <p:cNvPr id="54" name=""/>
            <p:cNvSpPr/>
            <p:nvPr/>
          </p:nvSpPr>
          <p:spPr>
            <a:xfrm>
              <a:off x="673200" y="725400"/>
              <a:ext cx="151452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87720" y="725400"/>
              <a:ext cx="729936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rly vers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iconiusDB @ NESC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National Evolutionary Synthesis Cen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nescent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pir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PDM (The Genomic Diversity and Phenotype Data Mod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maizegenetics.net/gdpdm/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3200" y="2892600"/>
              <a:ext cx="15145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9-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7720" y="2892600"/>
              <a:ext cx="729936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incarnation spearheaded by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 @ Washington State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R (Genome Database for Rosacea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rosaceae.org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OD working group form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gmod.org/wiki/Chado_Natural_Diversity_Module_Working_Grou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00" y="4849920"/>
              <a:ext cx="1514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gust 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7720" y="4849920"/>
              <a:ext cx="7299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ural Diversity module merged into Chado svn 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21640" y="1625760"/>
            <a:ext cx="1316160" cy="132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16720" y="3962520"/>
            <a:ext cx="16416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urrent develop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5960" y="507960"/>
            <a:ext cx="9466200" cy="6329520"/>
            <a:chOff x="345960" y="507960"/>
            <a:chExt cx="9466200" cy="6329520"/>
          </a:xfrm>
        </p:grpSpPr>
        <p:sp>
          <p:nvSpPr>
            <p:cNvPr id="115" name=""/>
            <p:cNvSpPr/>
            <p:nvPr/>
          </p:nvSpPr>
          <p:spPr>
            <a:xfrm>
              <a:off x="345960" y="50796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14640" y="50796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fil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960" y="946080"/>
              <a:ext cx="2668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ve Clements (organiz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4640" y="946080"/>
              <a:ext cx="6797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SCent,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960" y="1446120"/>
              <a:ext cx="2668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14640" y="1446120"/>
              <a:ext cx="67975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5960" y="180036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rrie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14640" y="180036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960" y="21654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phen Fick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4640" y="21654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960" y="253044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g Sta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4640" y="253044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960" y="289548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ott C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14640" y="289548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ICR /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5960" y="326088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vieve DeCle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14640" y="326088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nell / Gram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960" y="3625920"/>
              <a:ext cx="26686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 MacCall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14640" y="3625920"/>
              <a:ext cx="6797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960" y="39798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h Redm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4640" y="39798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960" y="434484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ama M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14640" y="434484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960" y="471024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en Frie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14640" y="471024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960" y="5148360"/>
              <a:ext cx="26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uri Ben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14640" y="5148360"/>
              <a:ext cx="67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960" y="5668920"/>
              <a:ext cx="2668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ntelis Topal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4640" y="5668920"/>
              <a:ext cx="67975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960" y="6043680"/>
              <a:ext cx="2668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manuel Dialy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14640" y="6043680"/>
              <a:ext cx="6797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960" y="6440400"/>
              <a:ext cx="2668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b Bu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4640" y="6440400"/>
              <a:ext cx="6797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Schem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ock (pre-existing module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87280" y="1812960"/>
            <a:ext cx="7785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0840" y="306360"/>
            <a:ext cx="3527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07960" y="132084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79977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5800" y="1828440"/>
            <a:ext cx="43290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0840" y="306000"/>
            <a:ext cx="3527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notype &amp;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962520" y="406440"/>
            <a:ext cx="590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